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58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97E-30BD-415C-9BC0-DA49ACBE1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318-8D0C-4DDB-9CC2-A95BBEF0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A3C-44D1-4C08-9B35-1B8C8218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099-17CE-4381-BC6F-0B2CA4F0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0328-E724-4246-BF97-CEEE322F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DCA-D6CB-4C6F-980D-273976A5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5728-6308-4D59-90FA-62F049070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BD12-3623-428F-A971-D809E5AB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DB9C-1AAB-442E-AEA6-DAFF6CB4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710-A8C9-473E-98E0-936FCDB5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7D2-00CC-4242-971B-CE2798CE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24A-088D-4285-AC9D-13187AE7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326-342E-4A82-91F5-72C395B8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C8B-0BDC-46A9-BDEB-BD1A04ED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2F2-C22D-4CA6-9613-540BDB8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576-F2AE-46ED-A842-C73B184E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680-D11D-42F6-92A3-27C53041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E4F-F8A0-41C8-97B8-6283A53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B1D-D860-4770-A98D-24F4DEC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14C-1162-445C-8F8B-DB13B55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506-D56A-4A25-B443-E3B446D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4A6-F861-4D67-9D2C-2F86AA74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9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35"/>
          <p:cNvSpPr/>
          <p:nvPr/>
        </p:nvSpPr>
        <p:spPr>
          <a:xfrm>
            <a:off x="304920" y="3340080"/>
            <a:ext cx="84582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PD un IeVP darbinieku apmācību vajadzī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ētījuma rezultātu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Gitāna Dāvid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dītāja, vadošā konsultante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7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47640" y="-111240"/>
            <a:ext cx="949176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amatinformācija par pētīju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802800"/>
            <a:ext cx="808848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ījuma mērķ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adīt analītisko bāzi un iegūt informāciju par esošā apmācību procesa un satura atbilstību IeVP un VPD funkciju izpildei un identificēt pilnveidojamās apmācību j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rises laik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009. gada janvāris –m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nieku kvalifikā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ģistra grāds psiholoģ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smaz 5 gadu pedagoģiskā darba piered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ieeja pētījuma veikšan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nepieciešamas šobrī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būs nepieciešamas nākotnē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s ir pašreizējais zināšanu, prasmju un iemaņu līmenis VPD un IeVP speciālistiem un vadošajam personāl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i ir pieejamās apmācības kompetenču attīstīb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72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niecības me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okumentu analī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tervijas ar iestāžu vadošajām amatpersonā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okusgrupu diskusijas (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nalīze, dalībnieku atsauk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dziļinātas intervijas (16 VPD; 15 ar virsnieki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Grupu intervijas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VPD darbinieku un klientu sarunu novērošana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klientu lietu vadības analīze (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ozīmīgākie pētījuma rezultā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764640"/>
            <a:ext cx="817884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airāku mācību programmu izvērtēj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: Jauno darbinieku apmācību programma, Individuālais darbs ar klientu u.c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IeVP: programma “Ieslodzījuma vietu apsard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Metodiskā un klientu perspektī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98320" y="3886200"/>
            <a:ext cx="8178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tizēts apkopojums par VPD vecākā referenta amatā nepieciešamajām zināšanām un prasmē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ktuālo mācību vajadzību apzināšana VPD darbinieki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85720" y="2455920"/>
            <a:ext cx="81788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riekšlikumi par mācību tēmām un mācību programmas saturu 2 jaunām mācību programmā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irsniekiem IeV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 darbinieki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61960" y="5200560"/>
            <a:ext cx="817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Apmācību sistēmu izvērtējums VPD un IeVP, priekšlikumi to pilnveidošan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8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35"/>
          <p:cNvSpPr/>
          <p:nvPr/>
        </p:nvSpPr>
        <p:spPr>
          <a:xfrm>
            <a:off x="304920" y="1401840"/>
            <a:ext cx="84582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ūtiskākie secinājumi un priekšlik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ācību programmu analī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rķi un saturs lielā mērā nodrošina darbam nepieciešamo zināšanu un prasmju attīs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alielināt praktisko mācību metožu vietu un īpats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ācību sistē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tbilstība apmācību mērķ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ielā mērā nodrošināta programmu savstarpējā saskaņotība un pēctecīb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ilnveidot apmācību kvalitātes uzraudzības mehān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08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-4190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ījuma veiksmes fak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5120" y="3348000"/>
            <a:ext cx="81788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ša konsultantu sadarbība ar projekta darba gr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nošanās par pētījuma metodēm un sagaidāmajiem rezultāt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ionālo kompetenču siner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ama projekta vad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9880" y="581040"/>
            <a:ext cx="8205840" cy="2617560"/>
            <a:chOff x="839880" y="581040"/>
            <a:chExt cx="8205840" cy="2617560"/>
          </a:xfrm>
        </p:grpSpPr>
        <p:sp>
          <p:nvSpPr>
            <p:cNvPr id="117" name="Rectangle 10"/>
            <p:cNvSpPr/>
            <p:nvPr/>
          </p:nvSpPr>
          <p:spPr>
            <a:xfrm>
              <a:off x="839880" y="58104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adošā personāla ieinteresētība abās iestādē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66880" y="168732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mācības kā nozīmīga prioritāte iestāžu darb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stēmiska pieeja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ūsdienīgas mācību met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20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-27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aldies par sadarbīb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ĪPA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PD un IeVP vadošajām amatpersonā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eksandram Dementje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eonīdam Jefremo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inai Pūrītei un Lienei Zeibo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jekta komand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ihailam Papsujevič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inai Vanagai un Anvaram Zavack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10:00Z</dcterms:created>
  <dc:creator>Maris</dc:creator>
  <dc:description/>
  <dc:language>en-US</dc:language>
  <cp:lastModifiedBy>Gitana</cp:lastModifiedBy>
  <dcterms:modified xsi:type="dcterms:W3CDTF">2010-12-14T17:51:49Z</dcterms:modified>
  <cp:revision>465</cp:revision>
  <dc:subject/>
  <dc:title>Organization Development Academy</dc:title>
</cp:coreProperties>
</file>